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F0E3-891D-475D-82C7-DF6CE7E4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2A46-8775-4040-8685-516C7C4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1056-2DFC-4AD8-9A37-6462AE99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36FB-9582-4BC0-B67D-00A26680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EB8-1BB9-42C6-9C8A-E4928E49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A4F9-E2DB-4723-A233-117C8B0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4720-8B8C-4F65-9A2E-E187017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4903-131F-4B3C-B6C3-813A50A6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D26-B6B9-47C4-8376-0E2C496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2AD-A7BC-4F06-A32D-069B8CF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3808-1AA1-4B72-9CCC-6302490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E00F-13EA-48D5-BB44-C592C1E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99E6-951E-44BB-A302-786FFAC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11C4-674C-486E-A71D-ABD7918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3E33-472C-477F-B265-710974F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2A43-2D0E-4564-95E9-94375D6D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C10-3750-4E9D-A316-636F0CE1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D632-39C2-46B7-802E-52A5AC6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03F9-A9D4-4410-905A-9A6E307E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512D-696A-470E-93AF-56141E50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B8D3-0EEA-4778-9BA0-80BC60C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938D-EDCD-4D3C-8008-EDF6842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8B6F-360D-415F-9978-8BC565A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D5A3-D162-4C03-8DC9-C96EC0D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AAE-59B9-41F0-B1AC-94AACD699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36F-2ACB-4AA2-8912-1DD3D473EB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crets of Message Bo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5562720"/>
            <a:ext cx="1524240" cy="685800"/>
          </a:xfrm>
          <a:custGeom>
            <a:avLst/>
            <a:gdLst>
              <a:gd name="textAreaLeft" fmla="*/ 44280 w 1524240"/>
              <a:gd name="textAreaRight" fmla="*/ 1479960 w 152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94" h="21600">
                <a:moveTo>
                  <a:pt x="0" y="0"/>
                </a:moveTo>
                <a:lnTo>
                  <a:pt x="47994" y="0"/>
                </a:lnTo>
                <a:lnTo>
                  <a:pt x="47994" y="21600"/>
                </a:lnTo>
                <a:lnTo>
                  <a:pt x="0" y="21600"/>
                </a:lnTo>
                <a:close/>
              </a:path>
              <a:path fill="lightenLess" w="47994" h="21600">
                <a:moveTo>
                  <a:pt x="0" y="0"/>
                </a:moveTo>
                <a:lnTo>
                  <a:pt x="47994" y="0"/>
                </a:lnTo>
                <a:lnTo>
                  <a:pt x="46594" y="1400"/>
                </a:lnTo>
                <a:lnTo>
                  <a:pt x="1400" y="1400"/>
                </a:lnTo>
                <a:close/>
              </a:path>
              <a:path fill="darken" w="47994" h="21600">
                <a:moveTo>
                  <a:pt x="47994" y="0"/>
                </a:moveTo>
                <a:lnTo>
                  <a:pt x="47994" y="21600"/>
                </a:lnTo>
                <a:lnTo>
                  <a:pt x="46594" y="20200"/>
                </a:lnTo>
                <a:lnTo>
                  <a:pt x="46594" y="1400"/>
                </a:lnTo>
                <a:close/>
              </a:path>
              <a:path fill="darkenLess" w="47994" h="21600">
                <a:moveTo>
                  <a:pt x="47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4" y="20200"/>
                </a:lnTo>
                <a:close/>
              </a:path>
              <a:path fill="lighten" w="47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t's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colate -Yes -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31240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t Program - Yes-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962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Q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55:54Z</dcterms:created>
  <dc:creator>jnatale</dc:creator>
  <dc:description/>
  <dc:language>en-US</dc:language>
  <cp:lastModifiedBy>jnatale</cp:lastModifiedBy>
  <dcterms:modified xsi:type="dcterms:W3CDTF">2009-02-19T15:07:44Z</dcterms:modified>
  <cp:revision>2</cp:revision>
  <dc:subject/>
  <dc:title>Secrets of Message Boxes</dc:title>
</cp:coreProperties>
</file>